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0C2-6434-4A36-A182-3C11357C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589-6F39-4A53-A71C-18B14393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3EF-8BC6-401B-80E6-7E64A606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A75-B60A-4247-8F98-6CB87B6F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8B9-72BD-4F8D-89E1-EADC65BD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F3E-8C97-4043-8B85-0B771CA5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3D9-0B95-4481-9528-FFDEDB14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3B9-A83A-4C05-8D16-0CAC20A1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837-8146-4A94-9BEB-9D4BCEB9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58D-1A55-4F54-8EFD-C54C31D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169-5C1B-492F-8A2A-B8D7534B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028-9D09-4409-8EFB-608BF43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7DDB-BE97-47C2-8390-5359B0EAA0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69134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黑体"/>
              </a:rPr>
              <a:t>第九章    机关事业单位工勤人员的</a:t>
            </a:r>
            <a:br>
              <a:rPr sz="3200"/>
            </a:b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黑体"/>
              </a:rPr>
              <a:t>      岗位技能素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1640" y="2565000"/>
            <a:ext cx="6481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了解工勤岗位的特殊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敬业、勤业、精业、乐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1045000">
            <a:off x="6372360" y="4869000"/>
            <a:ext cx="194292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00000" y="981000"/>
            <a:ext cx="73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黑体"/>
                <a:ea typeface="黑体"/>
              </a:rPr>
              <a:t>第一节  工勤岗位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一、工勤岗位的概念及设置：三大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ff66"/>
                </a:solidFill>
                <a:latin typeface="微软雅黑"/>
                <a:ea typeface="微软雅黑"/>
              </a:rPr>
              <a:t>管理    技术    工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特点：（一）综合素质要求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社会影响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岗位设置“多而独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凸显社会服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二、工勤岗位职责案例</a:t>
            </a:r>
            <a:r>
              <a:rPr b="0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1045000">
            <a:off x="6372360" y="4869000"/>
            <a:ext cx="194292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129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黑体"/>
                <a:ea typeface="黑体"/>
              </a:rPr>
              <a:t>第二节  工勤岗位的职业技能素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爱岗敬业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庖丁解牛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见贤思齐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分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凸显业绩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分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阳光心态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分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42915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理论复习题（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P09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515772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工勤岗位等级（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P10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42915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理论复习题（</a:t>
            </a: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P094</a:t>
            </a: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15772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工勤岗位等级（</a:t>
            </a: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P102</a:t>
            </a:r>
            <a:r>
              <a:rPr b="1" lang="zh-CN" sz="3200" spc="-1" strike="noStrike">
                <a:solidFill>
                  <a:srgbClr val="cccc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2318040" cy="2401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32000" y="1980720"/>
            <a:ext cx="66960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99ff"/>
                </a:solidFill>
                <a:latin typeface="黑体"/>
                <a:ea typeface="黑体"/>
              </a:rPr>
              <a:t>一、工勤岗位有哪些特殊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要点：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综合素质要求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社会影响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岗位设置“多而独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凸显社会服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思 考 题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补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5734080"/>
            <a:ext cx="6840360" cy="431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4653000"/>
            <a:ext cx="1812600" cy="18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3:47:36Z</dcterms:created>
  <dc:creator>llm</dc:creator>
  <dc:description/>
  <dc:language>en-US</dc:language>
  <cp:lastModifiedBy>User</cp:lastModifiedBy>
  <dcterms:modified xsi:type="dcterms:W3CDTF">2013-06-04T15:43:18Z</dcterms:modified>
  <cp:revision>89</cp:revision>
  <dc:subject/>
  <dc:title>PowerPoint 演示文稿</dc:title>
</cp:coreProperties>
</file>