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D5DF-7E00-462C-A698-12439F0E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4F3-C16E-4C54-B574-37E97CD8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875-7F48-47C5-9E6C-23D9B262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614-011A-4EAE-AFCA-F0206E50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D8AE-2A75-49DE-81A4-61103DCB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971A-D59F-4F24-B01A-53FD5F54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83EB-CAB2-472F-BF7E-F9512204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2A14-E3B6-4093-BB1B-F2845A72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D763-564D-4B7B-A6B1-5CED70A4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E40F-1B89-4A43-80BD-32B3F038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F716-AF98-47E8-9B4C-0A197E6F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FD7-AF5F-44E6-B60B-8571D260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5FF8-0D89-4185-9356-575B4F28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A0BE-6C0B-49C2-BA17-E2EBA720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CC5A-AA51-452F-A597-9A0234A0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04D6-C805-4CCF-BDAD-43433B41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A7E6-D106-4F91-BE02-71802525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425-2C53-4821-B578-B02B4497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9F2-DE9B-4D5C-9071-BFDA7B0C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23D-8481-4D4F-879A-08C9B54C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CDF-1E67-4D26-82A2-7B671666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DA43-F684-4CD9-88D4-E2DE2015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7C6-EB83-4A59-B6B2-9C009FB4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4C6-C52C-40AB-A554-02B0292F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DBFF-2D2C-46F1-B700-F022E90501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9CD9-D0DB-4E57-AC36-AFF3ACCEAEC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10920" y="980640"/>
            <a:ext cx="64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六章 机关事业单位工勤人员的   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公共法律素养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867280" y="4581360"/>
            <a:ext cx="2521080" cy="2001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2565360"/>
            <a:ext cx="6553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提示：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法律意识、法制观念是现代人必备的基本素质之一 ，机关事业单位的工作人员应该成为遵纪守法的模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03280" y="1413000"/>
            <a:ext cx="74167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二、如何理解社会主义民主与法治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三、宪法是国家的根本法，体现在哪些方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五、我国民法是如何划分自然人的民事行为能力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六、简述犯罪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七、如何确认行政诉讼的被告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八、公、检、法三机关在直接受理刑事案件中是如何分工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620640"/>
            <a:ext cx="52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思考题   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（部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28000" y="1628640"/>
            <a:ext cx="649440" cy="216000"/>
          </a:xfrm>
          <a:custGeom>
            <a:avLst/>
            <a:gdLst>
              <a:gd name="textAreaLeft" fmla="*/ 0 w 649440"/>
              <a:gd name="textAreaRight" fmla="*/ 649800 w 649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链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8000" y="2492280"/>
            <a:ext cx="719280" cy="217440"/>
          </a:xfrm>
          <a:custGeom>
            <a:avLst/>
            <a:gdLst>
              <a:gd name="textAreaLeft" fmla="*/ 0 w 719280"/>
              <a:gd name="textAreaRight" fmla="*/ 719640 w 7192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3860640"/>
            <a:ext cx="863640" cy="289080"/>
          </a:xfrm>
          <a:custGeom>
            <a:avLst/>
            <a:gdLst>
              <a:gd name="textAreaLeft" fmla="*/ 0 w 863640"/>
              <a:gd name="textAreaRight" fmla="*/ 864000 w 86364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3213000"/>
            <a:ext cx="792360" cy="289080"/>
          </a:xfrm>
          <a:custGeom>
            <a:avLst/>
            <a:gdLst>
              <a:gd name="textAreaLeft" fmla="*/ 0 w 792360"/>
              <a:gd name="textAreaRight" fmla="*/ 792720 w 792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59894890455666f0450a0" descr=""/>
          <p:cNvPicPr/>
          <p:nvPr/>
        </p:nvPicPr>
        <p:blipFill>
          <a:blip r:embed="rId1"/>
          <a:stretch/>
        </p:blipFill>
        <p:spPr>
          <a:xfrm>
            <a:off x="2987640" y="5805360"/>
            <a:ext cx="5638680" cy="676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067280" y="5445000"/>
            <a:ext cx="863640" cy="289080"/>
          </a:xfrm>
          <a:custGeom>
            <a:avLst/>
            <a:gdLst>
              <a:gd name="textAreaLeft" fmla="*/ 0 w 863640"/>
              <a:gd name="textAreaRight" fmla="*/ 864000 w 86364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9640" y="4365720"/>
            <a:ext cx="863640" cy="288720"/>
          </a:xfrm>
          <a:custGeom>
            <a:avLst/>
            <a:gdLst>
              <a:gd name="textAreaLeft" fmla="*/ 0 w 863640"/>
              <a:gd name="textAreaRight" fmla="*/ 864000 w 863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63640" y="62028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五、我国民法是如何划分自然人的</a:t>
            </a:r>
            <a:br>
              <a:rPr sz="2800"/>
            </a:b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                民事行为能力的？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P212</a:t>
            </a: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92000" y="2133720"/>
            <a:ext cx="7127640" cy="4032000"/>
          </a:xfrm>
          <a:prstGeom prst="rect">
            <a:avLst/>
          </a:prstGeom>
          <a:noFill/>
          <a:ln w="12600">
            <a:solidFill>
              <a:srgbClr val="003300"/>
            </a:solidFill>
            <a:prstDash val="lgDash"/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要点： 我国《民法通则》对自然人的民事行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能力分为三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*18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岁以上，理智健全的自然人：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完全民事行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人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；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16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岁以上不满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18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岁，以自己劳动收入为主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生活来源的人，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微软雅黑"/>
                <a:ea typeface="微软雅黑"/>
              </a:rPr>
              <a:t>视为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完全民事行为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*10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岁以上的未成年人和不能完全辩认自己行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的精神病人：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限制民事行为能力人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*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不满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10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岁的未成年人和完全不能辩认自己行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的精神病人：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无民事行为能力人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6237360"/>
            <a:ext cx="1079640" cy="360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549360"/>
            <a:ext cx="489744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六、简述犯罪构成    </a:t>
            </a:r>
            <a:r>
              <a:rPr b="0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P221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640" y="1413000"/>
            <a:ext cx="7369200" cy="4535280"/>
          </a:xfrm>
          <a:prstGeom prst="rect">
            <a:avLst/>
          </a:prstGeom>
          <a:noFill/>
          <a:ln w="12600">
            <a:solidFill>
              <a:srgbClr val="008000"/>
            </a:solidFill>
            <a:prstDash val="lgDash"/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要点：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我国刑法规定犯罪的构成必须具备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四个要件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犯罪客体 </a:t>
            </a:r>
            <a:r>
              <a:rPr b="0" lang="zh-CN" sz="2200" spc="-1" strike="noStrike">
                <a:solidFill>
                  <a:srgbClr val="0033cc"/>
                </a:solidFill>
                <a:latin typeface="微软雅黑"/>
                <a:ea typeface="微软雅黑"/>
              </a:rPr>
              <a:t>受法律保护而被犯罪行为人侵害的</a:t>
            </a:r>
            <a:r>
              <a:rPr b="0" lang="zh-CN" sz="2200" spc="-1" strike="noStrike">
                <a:solidFill>
                  <a:srgbClr val="660066"/>
                </a:solidFill>
                <a:latin typeface="微软雅黑"/>
                <a:ea typeface="微软雅黑"/>
              </a:rPr>
              <a:t>社会关系</a:t>
            </a:r>
            <a:r>
              <a:rPr b="0" lang="zh-CN" sz="22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犯罪客观方面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犯罪行为及该行为造成的危害结果。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                         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（为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因果关系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犯罪的主体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实施犯罪行为，并依法应当承担法律责任的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微软雅黑"/>
                <a:ea typeface="微软雅黑"/>
              </a:rPr>
              <a:t>自然人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和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微软雅黑"/>
                <a:ea typeface="微软雅黑"/>
              </a:rPr>
              <a:t>法人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犯罪的主观方面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：实施犯罪行为时的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心理态度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。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                     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（故意或过失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--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罪过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刑事责任年龄：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16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周岁以上：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完全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刑事责任年龄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                    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不满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14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周岁：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无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刑事责任年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                     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14~16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周岁： 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相对</a:t>
            </a:r>
            <a:r>
              <a:rPr b="0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刑事责任年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48360" y="6165720"/>
            <a:ext cx="1008360" cy="36036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8920" y="54936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七、如何确认行政诉讼的被告？</a:t>
            </a:r>
            <a:r>
              <a:rPr b="0" lang="zh-CN" sz="4000" spc="-1" strike="noStrike">
                <a:solidFill>
                  <a:srgbClr val="996600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P228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9280" y="1341000"/>
            <a:ext cx="7129440" cy="4824360"/>
          </a:xfrm>
          <a:prstGeom prst="rect">
            <a:avLst/>
          </a:prstGeom>
          <a:noFill/>
          <a:ln w="12600">
            <a:solidFill>
              <a:srgbClr val="008000"/>
            </a:solidFill>
            <a:prstDash val="lgDash"/>
            <a:miter/>
          </a:ln>
        </p:spPr>
        <p:txBody>
          <a:bodyPr lIns="90000" rIns="90000" tIns="46800" bIns="46800" anchor="ctr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60033"/>
                </a:solidFill>
                <a:latin typeface="微软雅黑"/>
                <a:ea typeface="微软雅黑"/>
              </a:rPr>
              <a:t>《行政诉讼法》规定行政诉讼的被告有五种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1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作出具体行政行为的行政机关是被告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2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复议案件，复议机关</a:t>
            </a: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维持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原具体行政行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的，作出原具体行政行为的行政机关是被告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3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复议机关</a:t>
            </a: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改变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原具体行政行为的，复议机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是被告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4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两个以上的行政机关作出同一具体行政行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的，共同作出具体行政行为的行政机关是</a:t>
            </a: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共同被告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5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由法律、法规</a:t>
            </a:r>
            <a:r>
              <a:rPr b="0" lang="zh-CN" sz="2600" spc="-1" strike="noStrike">
                <a:solidFill>
                  <a:srgbClr val="660066"/>
                </a:solidFill>
                <a:latin typeface="微软雅黑"/>
                <a:ea typeface="微软雅黑"/>
              </a:rPr>
              <a:t>授权</a:t>
            </a: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的组织作出具体行政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00"/>
                </a:solidFill>
                <a:latin typeface="微软雅黑"/>
                <a:ea typeface="微软雅黑"/>
              </a:rPr>
              <a:t>为的，该组织为被告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6237360"/>
            <a:ext cx="1008000" cy="360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3640" y="836280"/>
            <a:ext cx="655344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八、公、检、法三机关在直接受理刑事 </a:t>
            </a:r>
            <a:br>
              <a:rPr sz="2800"/>
            </a:b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          案件中是如何分工的？ </a:t>
            </a: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P229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92000" y="1989000"/>
            <a:ext cx="7056360" cy="3888000"/>
          </a:xfrm>
          <a:prstGeom prst="rect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要点：公、检、法三机关在直接受理刑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案件中的分工称为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微软雅黑"/>
              </a:rPr>
              <a:t>“立案管辖”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。根据我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《刑事诉讼法》第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18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务规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刑事案件的侦查，由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公安机关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进行，法律另有规定的除外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职务犯罪由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微软雅黑"/>
              </a:rPr>
              <a:t>人民检察院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侦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自诉案件由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微软雅黑"/>
              </a:rPr>
              <a:t>人民法院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直接受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48360" y="6021360"/>
            <a:ext cx="1008360" cy="36036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8000" y="2997360"/>
            <a:ext cx="576108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第一节  法律的内涵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4076640"/>
            <a:ext cx="6840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一、一般含义：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由国家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创制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并由国家强制力保证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实施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，反映由物质生活条件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决定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的统治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阶级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意志的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行为规范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总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907920"/>
            <a:ext cx="5329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第一节  法律的内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第二节  树立法制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第三节  掌握法律规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619280" y="1773360"/>
            <a:ext cx="7128000" cy="4249440"/>
          </a:xfrm>
          <a:prstGeom prst="rect">
            <a:avLst/>
          </a:prstGeom>
          <a:noFill/>
          <a:ln w="12600">
            <a:solidFill>
              <a:srgbClr val="800000"/>
            </a:solidFill>
            <a:prstDash val="lgDashDotDot"/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）</a:t>
            </a: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范畴不同：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法律属政治上层建筑；道德属思想上层建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）</a:t>
            </a: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内容不同：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法律强调权利与义务对等；道德侧重对他人和社会的义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）</a:t>
            </a: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效力不同：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法律有国家强制力保证实施；道德靠社会舆论和内心信念实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）</a:t>
            </a: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表现形式不同：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法律由国家机关根据法律程序制定；道德潜移默化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5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）</a:t>
            </a: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调整范围不同：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法律是阶级社会的产物；道德存在的时间更长；调整的范围亦更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83664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法与道德的区别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124000" y="3500280"/>
            <a:ext cx="295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七大法律部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宪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民商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行政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经济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2492280"/>
            <a:ext cx="6838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三、我国的法律体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三个层次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：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根本法、实体法、程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4076640"/>
            <a:ext cx="316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5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社会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6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刑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7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诉讼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   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非诉讼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微软雅黑"/>
              </a:rPr>
              <a:t>程序法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692280"/>
            <a:ext cx="7128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二、我国社会主义法律的内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我国社会主义法律的本质  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P1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</a:t>
            </a:r>
            <a:r>
              <a:rPr b="0" lang="zh-CN" sz="2800" spc="-1" strike="noStrike" u="sng">
                <a:solidFill>
                  <a:srgbClr val="990000"/>
                </a:solidFill>
                <a:uFillTx/>
                <a:latin typeface="微软雅黑"/>
                <a:ea typeface="微软雅黑"/>
              </a:rPr>
              <a:t>政策和法律的区别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P1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692280"/>
            <a:ext cx="6626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四、我国社会主义法律的运行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640" y="4149720"/>
            <a:ext cx="6337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06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五、建设社会主义法治国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法制与法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法制：国家的法律和制度，由国家政权派生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法治：相对民主而言，是治理国家的方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1628640"/>
            <a:ext cx="7272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法律制定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--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有法可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法律运行的前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法律遵守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--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有法必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法律运行的关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法律执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--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公平正义，法律面前人人平等。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违法必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法律适用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--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法律规定的国家机关 （法院、检察院）    以国家名义按法定程序，独立行使司法权。  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执法必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63640" y="692280"/>
            <a:ext cx="60483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06440" indent="-40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我国社会主义法治国家的基本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人民民主专政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人民当家作主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保证社会主义生产关系，发展经济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马克思主义理论指导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3357720"/>
            <a:ext cx="6335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06440" indent="-40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建设社会主义法治国家的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加强立法，提高立法质量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加强司法，维护社会公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加强行政执法，推进依法行政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加强执法监督，确保权利正确行使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加强法制宣传，提高法律意识和法制观念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71996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第二节  树立法制观念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1557360"/>
            <a:ext cx="7345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（一）民主与法治的关系：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民主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是前提和基础，决定法治的性质和内容；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法治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是民主的体现和保障，是实现民主的重要途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微软雅黑"/>
                <a:ea typeface="微软雅黑"/>
              </a:rPr>
              <a:t>发扬民主健全法制，必须两手抓两手都要硬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5640" y="3500280"/>
            <a:ext cx="74883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（二）法律面前人人平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立法平等：平等的权利、平等的义务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守法平等：任何人都必须在宪法和法律的范围内活动，不允许有特殊公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适用法律平等：违法犯罪平等地受法律处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7524720" y="335772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76360" y="765000"/>
            <a:ext cx="727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（三）权利和义务的观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-----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公民意识（权利和义务意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1989000"/>
            <a:ext cx="741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、权利和义务</a:t>
            </a:r>
            <a:r>
              <a:rPr b="0" lang="zh-CN" sz="2400" spc="-1" strike="noStrike" u="sng">
                <a:solidFill>
                  <a:srgbClr val="990000"/>
                </a:solidFill>
                <a:uFillTx/>
                <a:latin typeface="微软雅黑"/>
                <a:ea typeface="微软雅黑"/>
              </a:rPr>
              <a:t>相对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：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公民既是权利主体，又是义务主体。公民在享受权利时，不能影响别人的权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、权利和义务</a:t>
            </a:r>
            <a:r>
              <a:rPr b="0" lang="zh-CN" sz="2400" spc="-1" strike="noStrike" u="sng">
                <a:solidFill>
                  <a:srgbClr val="990000"/>
                </a:solidFill>
                <a:uFillTx/>
                <a:latin typeface="微软雅黑"/>
                <a:ea typeface="微软雅黑"/>
              </a:rPr>
              <a:t>对等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：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法律主张公平。没有义务的权利是特权；反之，只讲义务，则权利成为虚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、权利和义务</a:t>
            </a:r>
            <a:r>
              <a:rPr b="0" lang="zh-CN" sz="2400" spc="-1" strike="noStrike" u="sng">
                <a:solidFill>
                  <a:srgbClr val="990000"/>
                </a:solidFill>
                <a:uFillTx/>
                <a:latin typeface="微软雅黑"/>
                <a:ea typeface="微软雅黑"/>
              </a:rPr>
              <a:t>互补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：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充分享受权利才能更好地履行义务。履行义务才能更加广泛、充分地保证权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16360" y="5300640"/>
            <a:ext cx="5688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979280" y="2565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华文新魏"/>
                <a:ea typeface="微软雅黑"/>
              </a:rPr>
              <a:t>实体法：</a:t>
            </a:r>
            <a:r>
              <a:rPr b="0" lang="zh-CN" sz="2800" spc="-1" strike="noStrike">
                <a:solidFill>
                  <a:srgbClr val="0033cc"/>
                </a:solidFill>
                <a:latin typeface="幼圆"/>
                <a:ea typeface="微软雅黑"/>
              </a:rPr>
              <a:t>规定法律关系主体具体权利和义务的法律规范的总称</a:t>
            </a:r>
            <a:r>
              <a:rPr b="1" lang="zh-CN" sz="2800" spc="-1" strike="noStrike">
                <a:solidFill>
                  <a:srgbClr val="0033cc"/>
                </a:solidFill>
                <a:latin typeface="幼圆"/>
                <a:ea typeface="幼圆"/>
              </a:rPr>
              <a:t>。 </a:t>
            </a: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P2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692280"/>
            <a:ext cx="5759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第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三节  掌握法律规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1557360"/>
            <a:ext cx="66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宪法：根本法  </a:t>
            </a:r>
            <a:r>
              <a:rPr b="0" lang="zh-CN" sz="2800" spc="-1" strike="noStrike">
                <a:solidFill>
                  <a:srgbClr val="0033cc"/>
                </a:solidFill>
                <a:latin typeface="幼圆"/>
                <a:ea typeface="微软雅黑"/>
              </a:rPr>
              <a:t>内容、效力、特别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3716280"/>
            <a:ext cx="6265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程序法：</a:t>
            </a:r>
            <a:r>
              <a:rPr b="0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规定保证权利得以实现，义务得以履行的有关程序为内容的法律规范总称。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P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7451640" y="2133720"/>
            <a:ext cx="1008000" cy="360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66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580000" y="4941720"/>
            <a:ext cx="1814400" cy="1528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340000" y="5373720"/>
            <a:ext cx="3024000" cy="649080"/>
          </a:xfrm>
          <a:prstGeom prst="rect">
            <a:avLst/>
          </a:prstGeom>
          <a:solidFill>
            <a:srgbClr val="666699">
              <a:alpha val="62000"/>
            </a:srgbClr>
          </a:solidFill>
          <a:ln w="9360">
            <a:solidFill>
              <a:srgbClr val="8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法律制度解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8:34:33Z</dcterms:created>
  <dc:creator>llm</dc:creator>
  <dc:description/>
  <dc:language>en-US</dc:language>
  <cp:lastModifiedBy>User</cp:lastModifiedBy>
  <dcterms:modified xsi:type="dcterms:W3CDTF">2013-06-04T15:49:52Z</dcterms:modified>
  <cp:revision>77</cp:revision>
  <dc:subject/>
  <dc:title>PowerPoint 演示文稿</dc:title>
</cp:coreProperties>
</file>