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3121-C950-431B-89F5-3E2BB271E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0436-90E1-4456-AE4E-7A8CA41E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5921-4AD2-4CFD-92CC-9568EAEF7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AF4E-4C5E-4911-96A5-2F69F9EA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0B98-C865-4F4D-92FC-ECDAA688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8110-2DBA-47A3-A308-7205BC0A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7ECD-EB6C-4598-95A2-5355AA6A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3D29-DCB8-49EA-914C-106B2355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CB32-8739-4E32-9B1D-99EC807F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D2E0-E947-46CC-8530-0E5128C5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F038-6714-4816-AD5A-5C0E0350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5082-0344-448F-A382-D811B2CA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ED86-57C4-40D7-AFAE-DFF8D06BF2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692280"/>
            <a:ext cx="6985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第十章  机关事业单位工勤人员的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礼仪文明素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492280"/>
            <a:ext cx="9144000" cy="2665440"/>
          </a:xfrm>
          <a:prstGeom prst="rect">
            <a:avLst/>
          </a:prstGeom>
          <a:solidFill>
            <a:srgbClr val="cc3300">
              <a:alpha val="6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提示：礼仪是人类文明的表现，也是人类文明的成果。个人的职业形象代表着单位的形象，直接影响单位的产品、服务和效益。在工作中要注意塑造自己的职业形象，从而塑造良好的单位形象。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403280" y="2565000"/>
            <a:ext cx="511344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第一节  礼仪概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第二节  个人形象礼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第三节  基本职业礼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56360" y="3213000"/>
            <a:ext cx="2477880" cy="2952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42920" y="907920"/>
            <a:ext cx="6985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第十章  机关事业单位工勤人员的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礼仪文明素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47640" y="404280"/>
            <a:ext cx="5112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第一节  礼仪概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0647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微软雅黑"/>
                <a:ea typeface="微软雅黑"/>
              </a:rPr>
              <a:t>一、礼仪概念</a:t>
            </a:r>
            <a:br>
              <a:rPr sz="3200"/>
            </a:b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（一）礼仪的概念</a:t>
            </a:r>
            <a:br>
              <a:rPr sz="3200"/>
            </a:b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     </a:t>
            </a:r>
            <a:r>
              <a:rPr b="0" lang="zh-CN" sz="3200" spc="-1" strike="noStrike">
                <a:solidFill>
                  <a:srgbClr val="660066"/>
                </a:solidFill>
                <a:latin typeface="微软雅黑"/>
                <a:ea typeface="微软雅黑"/>
              </a:rPr>
              <a:t>人们在交往中，为表达相互尊重，约定俗成、共同认可的规范和程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3500280"/>
            <a:ext cx="77770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（二）工勤人员礼仪内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       </a:t>
            </a:r>
            <a:r>
              <a:rPr b="0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工勤人员礼仪是工勤人员必备的基本条件，是工勤人员在服务过程中仪表、仪态、仪容、语言、操作规范的要求，体现工勤人员的精神面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476280"/>
            <a:ext cx="3672000" cy="792000"/>
          </a:xfrm>
          <a:prstGeom prst="rect">
            <a:avLst/>
          </a:prstGeom>
          <a:solidFill>
            <a:srgbClr val="ccccff">
              <a:alpha val="49000"/>
            </a:srgbClr>
          </a:solidFill>
          <a:ln w="936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第一节  礼仪概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640" y="1557000"/>
            <a:ext cx="7345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微软雅黑"/>
                <a:ea typeface="微软雅黑"/>
              </a:rPr>
              <a:t>二、礼仪的内容和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（一）礼仪的</a:t>
            </a:r>
            <a:r>
              <a:rPr b="0" lang="zh-CN" sz="3200" spc="-1" strike="noStrike">
                <a:solidFill>
                  <a:srgbClr val="660066"/>
                </a:solidFill>
                <a:latin typeface="微软雅黑"/>
                <a:ea typeface="微软雅黑"/>
              </a:rPr>
              <a:t>内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       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礼貌   礼节   仪式   礼俗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645000"/>
            <a:ext cx="75614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（二）礼仪的</a:t>
            </a:r>
            <a:r>
              <a:rPr b="0" lang="zh-CN" sz="3200" spc="-1" strike="noStrike">
                <a:solidFill>
                  <a:srgbClr val="660066"/>
                </a:solidFill>
                <a:latin typeface="微软雅黑"/>
                <a:ea typeface="微软雅黑"/>
              </a:rPr>
              <a:t>特点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       </a:t>
            </a:r>
            <a:r>
              <a:rPr b="0" lang="zh-CN" sz="3200" spc="-1" strike="noStrike">
                <a:solidFill>
                  <a:srgbClr val="000099"/>
                </a:solidFill>
                <a:latin typeface="微软雅黑"/>
                <a:ea typeface="微软雅黑"/>
              </a:rPr>
              <a:t>规范性    民族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微软雅黑"/>
                <a:ea typeface="微软雅黑"/>
              </a:rPr>
              <a:t>          </a:t>
            </a:r>
            <a:r>
              <a:rPr b="0" lang="zh-CN" sz="3200" spc="-1" strike="noStrike">
                <a:solidFill>
                  <a:srgbClr val="000099"/>
                </a:solidFill>
                <a:latin typeface="微软雅黑"/>
                <a:ea typeface="微软雅黑"/>
              </a:rPr>
              <a:t>国际性    时代性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11645" t="0" r="14599" b="-10385"/>
          <a:stretch/>
        </p:blipFill>
        <p:spPr>
          <a:xfrm>
            <a:off x="4643280" y="5589720"/>
            <a:ext cx="3525840" cy="685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156360" y="5380200"/>
            <a:ext cx="1727280" cy="1477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4248000" cy="792000"/>
          </a:xfrm>
          <a:prstGeom prst="rect">
            <a:avLst/>
          </a:prstGeom>
          <a:solidFill>
            <a:srgbClr val="ccccff">
              <a:alpha val="49000"/>
            </a:srgbClr>
          </a:solidFill>
          <a:ln w="93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第一节  礼仪概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072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微软雅黑"/>
                <a:ea typeface="微软雅黑"/>
              </a:rPr>
              <a:t>三、礼仪修养与职业形象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微软雅黑"/>
                <a:ea typeface="微软雅黑"/>
              </a:rPr>
              <a:t>    </a:t>
            </a:r>
            <a:r>
              <a:rPr b="0" lang="zh-CN" sz="3200" spc="-1" strike="noStrike">
                <a:solidFill>
                  <a:srgbClr val="660066"/>
                </a:solidFill>
                <a:latin typeface="微软雅黑"/>
                <a:ea typeface="微软雅黑"/>
              </a:rPr>
              <a:t>礼仪修养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是职业形象的内在因素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 </a:t>
            </a:r>
            <a:r>
              <a:rPr b="0" lang="zh-CN" sz="3200" spc="-1" strike="noStrike">
                <a:solidFill>
                  <a:srgbClr val="660066"/>
                </a:solidFill>
                <a:latin typeface="微软雅黑"/>
                <a:ea typeface="微软雅黑"/>
              </a:rPr>
              <a:t>职业形象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是礼仪修养的外在表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互为表里相得益彰，统一于职业活动之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4005360"/>
            <a:ext cx="8209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99"/>
                </a:solidFill>
                <a:latin typeface="微软雅黑"/>
                <a:ea typeface="微软雅黑"/>
              </a:rPr>
              <a:t>        </a:t>
            </a: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礼仪修养反映一个人的思想道德、文化修养、交际能力；在职业活动中，个人的职业形象代表着单位的形象，将直接影响单位的产品、服务和效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32360" y="6093000"/>
            <a:ext cx="1008000" cy="2887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6600"/>
          </a:solidFill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800000"/>
                </a:solidFill>
                <a:latin typeface="Times New Roman"/>
              </a:rPr>
              <a:t>接思考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1197000"/>
            <a:ext cx="7128000" cy="7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1197000"/>
            <a:ext cx="691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76360" y="1197000"/>
            <a:ext cx="36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5640" y="476280"/>
            <a:ext cx="4535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第二节  个人形象礼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799308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一、给人良好的第一印象 </a:t>
            </a: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先入为主 “首因效应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二、仪容礼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  </a:t>
            </a:r>
            <a:r>
              <a:rPr b="0" lang="zh-CN" sz="3200" spc="-1" strike="noStrike">
                <a:solidFill>
                  <a:srgbClr val="660066"/>
                </a:solidFill>
                <a:latin typeface="微软雅黑"/>
                <a:ea typeface="微软雅黑"/>
              </a:rPr>
              <a:t>保持自然美  适当修饰美  丰富内在美</a:t>
            </a: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3716280"/>
            <a:ext cx="7559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三、仪表礼仪：</a:t>
            </a:r>
            <a:r>
              <a:rPr b="0" lang="zh-CN" sz="2400" spc="-1" strike="noStrike">
                <a:solidFill>
                  <a:srgbClr val="800000"/>
                </a:solidFill>
                <a:latin typeface="微软雅黑"/>
                <a:ea typeface="微软雅黑"/>
              </a:rPr>
              <a:t>体现人的文化修养和审美情趣</a:t>
            </a:r>
            <a:r>
              <a:rPr b="0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四、仪态礼仪：</a:t>
            </a:r>
            <a:r>
              <a:rPr b="0" lang="zh-CN" sz="2400" spc="-1" strike="noStrike">
                <a:solidFill>
                  <a:srgbClr val="800000"/>
                </a:solidFill>
                <a:latin typeface="微软雅黑"/>
                <a:ea typeface="微软雅黑"/>
              </a:rPr>
              <a:t>眼神、微笑、站坐行姿、手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32720" y="5805360"/>
            <a:ext cx="1008000" cy="28908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6600"/>
          </a:solidFill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800000"/>
                </a:solidFill>
                <a:latin typeface="Times New Roman"/>
              </a:rPr>
              <a:t>接思考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11645" t="0" r="14599" b="-10385"/>
          <a:stretch/>
        </p:blipFill>
        <p:spPr>
          <a:xfrm>
            <a:off x="2627280" y="5516640"/>
            <a:ext cx="3022560" cy="685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979640" y="76500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第三节  基本职业礼仪</a:t>
            </a:r>
            <a:r>
              <a:rPr b="0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87280" y="1628640"/>
            <a:ext cx="720108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一、见面礼仪：</a:t>
            </a:r>
            <a:r>
              <a:rPr b="0" lang="zh-CN" sz="2800" spc="-1" strike="noStrike">
                <a:solidFill>
                  <a:srgbClr val="660066"/>
                </a:solidFill>
                <a:latin typeface="微软雅黑"/>
                <a:ea typeface="微软雅黑"/>
              </a:rPr>
              <a:t>致意、握手、鞠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二、称呼礼仪：</a:t>
            </a:r>
            <a:r>
              <a:rPr b="0" lang="zh-CN" sz="2600" spc="-1" strike="noStrike">
                <a:solidFill>
                  <a:srgbClr val="660066"/>
                </a:solidFill>
                <a:latin typeface="微软雅黑"/>
                <a:ea typeface="微软雅黑"/>
              </a:rPr>
              <a:t>使用尊称、记住对方的名字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三、交谈礼仪：</a:t>
            </a:r>
            <a:r>
              <a:rPr b="0" lang="zh-CN" sz="2500" spc="-1" strike="noStrike">
                <a:solidFill>
                  <a:srgbClr val="660066"/>
                </a:solidFill>
                <a:latin typeface="微软雅黑"/>
                <a:ea typeface="微软雅黑"/>
              </a:rPr>
              <a:t>礼貌用语、回避禁忌、善于倾听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四、电话礼仪：</a:t>
            </a:r>
            <a:r>
              <a:rPr b="0" lang="zh-CN" sz="2600" spc="-1" strike="noStrike">
                <a:solidFill>
                  <a:srgbClr val="660066"/>
                </a:solidFill>
                <a:latin typeface="微软雅黑"/>
                <a:ea typeface="微软雅黑"/>
              </a:rPr>
              <a:t>礼貌、友善、简洁、语速适当</a:t>
            </a: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五、出入办公室礼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          </a:t>
            </a:r>
            <a:r>
              <a:rPr b="1" lang="zh-CN" sz="2600" spc="-1" strike="noStrike">
                <a:solidFill>
                  <a:srgbClr val="ffff66"/>
                </a:solidFill>
                <a:latin typeface="微软雅黑"/>
                <a:ea typeface="微软雅黑"/>
              </a:rPr>
              <a:t>先敲门、后进入，</a:t>
            </a:r>
            <a:r>
              <a:rPr b="1" lang="zh-CN" sz="2400" spc="-1" strike="noStrike">
                <a:solidFill>
                  <a:srgbClr val="ffff66"/>
                </a:solidFill>
                <a:latin typeface="微软雅黑"/>
                <a:ea typeface="微软雅黑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微软雅黑"/>
                <a:ea typeface="微软雅黑"/>
              </a:rPr>
              <a:t>                 </a:t>
            </a:r>
            <a:r>
              <a:rPr b="1" lang="zh-CN" sz="2600" spc="-1" strike="noStrike">
                <a:solidFill>
                  <a:srgbClr val="ffff66"/>
                </a:solidFill>
                <a:latin typeface="微软雅黑"/>
                <a:ea typeface="微软雅黑"/>
              </a:rPr>
              <a:t>离开道别轻关门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084720" y="4221000"/>
            <a:ext cx="1955880" cy="2160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140360" y="5805360"/>
            <a:ext cx="936360" cy="289080"/>
          </a:xfrm>
          <a:custGeom>
            <a:avLst/>
            <a:gdLst>
              <a:gd name="textAreaLeft" fmla="*/ 0 w 936360"/>
              <a:gd name="textAreaRight" fmla="*/ 936720 w 93636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6600"/>
          </a:solidFill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200" spc="-1" strike="noStrike">
                <a:solidFill>
                  <a:srgbClr val="800000"/>
                </a:solidFill>
                <a:latin typeface="Times New Roman"/>
              </a:rPr>
              <a:t>接思考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101080" y="2349360"/>
            <a:ext cx="574560" cy="358920"/>
          </a:xfrm>
          <a:prstGeom prst="smileyFace">
            <a:avLst>
              <a:gd name="adj" fmla="val 9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8920" y="620640"/>
            <a:ext cx="439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微软雅黑"/>
                <a:ea typeface="微软雅黑"/>
              </a:rPr>
              <a:t>思考题</a:t>
            </a:r>
            <a:r>
              <a:rPr b="0" lang="zh-CN" sz="5400" spc="-1" strike="noStrike">
                <a:solidFill>
                  <a:srgbClr val="660066"/>
                </a:solidFill>
                <a:latin typeface="微软雅黑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003300"/>
                </a:solidFill>
                <a:latin typeface="微软雅黑"/>
                <a:ea typeface="微软雅黑"/>
              </a:rPr>
              <a:t>（部分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1773360"/>
            <a:ext cx="842472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机关事业单位工勤人员掌握礼仪、礼节的意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机关事业单位工勤人员应从哪些方面训练自己的仪态，使自己符合礼仪规范的要求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3</a:t>
            </a: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机关事业单位工勤人员出入办公室需要注意哪些礼仪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1" action="ppaction://hlinksldjump"/>
          </p:cNvPr>
          <p:cNvSpPr/>
          <p:nvPr/>
        </p:nvSpPr>
        <p:spPr>
          <a:xfrm>
            <a:off x="6804000" y="3141720"/>
            <a:ext cx="1008000" cy="2887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6600"/>
          </a:solidFill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  </a:t>
            </a:r>
            <a:r>
              <a:rPr b="0" lang="zh-CN" sz="1200" spc="-1" strike="noStrike">
                <a:solidFill>
                  <a:srgbClr val="800000"/>
                </a:solidFill>
                <a:latin typeface="Times New Roman"/>
              </a:rPr>
              <a:t>链要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35280" y="4508640"/>
            <a:ext cx="1008000" cy="2887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3300"/>
          </a:solidFill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0" lang="zh-CN" sz="1200" spc="-1" strike="noStrike">
                <a:solidFill>
                  <a:srgbClr val="660066"/>
                </a:solidFill>
                <a:latin typeface="Times New Roman"/>
              </a:rPr>
              <a:t>链要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028000" y="2060640"/>
            <a:ext cx="1008000" cy="2887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6600"/>
          </a:solidFill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800000"/>
                </a:solidFill>
                <a:latin typeface="Times New Roman"/>
              </a:rPr>
              <a:t>链要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nt"/>
          <p:cNvSpPr/>
          <p:nvPr/>
        </p:nvSpPr>
        <p:spPr>
          <a:xfrm>
            <a:off x="6588000" y="4797360"/>
            <a:ext cx="1297080" cy="100656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33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nt"/>
          <p:cNvSpPr/>
          <p:nvPr/>
        </p:nvSpPr>
        <p:spPr>
          <a:xfrm>
            <a:off x="5867280" y="5084640"/>
            <a:ext cx="1225800" cy="100836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33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676520" y="228600"/>
            <a:ext cx="601956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0" spc="-1" strike="noStrike">
                <a:solidFill>
                  <a:srgbClr val="ffcc66"/>
                </a:solidFill>
                <a:latin typeface="Times New Roman"/>
              </a:rPr>
              <a:t>人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48000" y="836640"/>
            <a:ext cx="6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ff"/>
                </a:solidFill>
                <a:latin typeface="Times New Roman"/>
                <a:ea typeface="黑体"/>
              </a:rPr>
              <a:t>生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013360"/>
            <a:ext cx="6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ff"/>
                </a:solidFill>
                <a:latin typeface="Times New Roman"/>
                <a:ea typeface="黑体"/>
              </a:rPr>
              <a:t>心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46483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4343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体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057400" y="3715920"/>
            <a:ext cx="1722600" cy="1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33526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体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259092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32000" y="22050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体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4191120"/>
            <a:ext cx="2063880" cy="29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64360" y="38606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兴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48320" y="3200400"/>
            <a:ext cx="1868400" cy="12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16720" y="285264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知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495680" y="2204640"/>
            <a:ext cx="151632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84720" y="184464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智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500"/>
                            </p:stCondLst>
                            <p:childTnLst>
                              <p:par>
                                <p:cTn id="1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500"/>
                            </p:stCondLst>
                            <p:childTnLst>
                              <p:par>
                                <p:cTn id="1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500"/>
                            </p:stCondLst>
                            <p:childTnLst>
                              <p:par>
                                <p:cTn id="1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000"/>
                            </p:stCondLst>
                            <p:childTnLst>
                              <p:par>
                                <p:cTn id="1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3:47:36Z</dcterms:created>
  <dc:creator>llm</dc:creator>
  <dc:description/>
  <dc:language>en-US</dc:language>
  <cp:lastModifiedBy>User</cp:lastModifiedBy>
  <dcterms:modified xsi:type="dcterms:W3CDTF">2013-06-04T15:32:42Z</dcterms:modified>
  <cp:revision>85</cp:revision>
  <dc:subject/>
  <dc:title>PowerPoint 演示文稿</dc:title>
</cp:coreProperties>
</file>