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E0D-D662-4FA2-ABF1-E5FDA798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148-BAC0-413E-BDE7-ABD1B96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772-C434-412B-B2B8-E791D6F1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C0D-6C60-4179-9C3F-E6F40892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595-DA74-4987-885A-100ED25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EDD-1B97-4A7F-A56F-9AC02B4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36D-9B94-4B0A-802F-B78A715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D6E-587D-4180-9C25-EB2C835F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7F1-59F2-4D2D-A283-D4B1344B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697-1AD0-4D60-98DF-5E7A32F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CDF-F269-4046-9C2F-AAB726B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E59-5D5D-4A62-ABF3-4933EA4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225A-BEBF-43CB-842B-10F695832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6913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第五章  机关事业单位工勤人员的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    公共经济学素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2781360"/>
            <a:ext cx="7070760" cy="324144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一节  公共经济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二节  公共部门的职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三节  公共产品理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四节  公共支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第五节  公共收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第六节  收入再分配和社会保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84464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了解公共经济学，提高公共经济学素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第六节  收入再分配和社会保障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P1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413000"/>
            <a:ext cx="8137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分配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即初次分配，是企业内部根据各</a:t>
            </a:r>
            <a:r>
              <a:rPr b="0" lang="zh-CN" sz="24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生产要素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在生产中的效率进行的分配。“高效率高回报” （税后收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即规模分配，在初次分配的基础上，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政府对各</a:t>
            </a:r>
            <a:r>
              <a:rPr b="0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生产要素的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收入进行调节的过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的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特点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宏观性  广泛性  自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分配的</a:t>
            </a:r>
            <a:r>
              <a:rPr b="0" lang="zh-CN" sz="28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手段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r>
              <a:rPr b="0" lang="zh-CN" sz="2700" spc="-1" strike="noStrike">
                <a:solidFill>
                  <a:srgbClr val="660066"/>
                </a:solidFill>
                <a:latin typeface="黑体"/>
                <a:ea typeface="黑体"/>
              </a:rPr>
              <a:t>税收 财政政策 </a:t>
            </a:r>
            <a:r>
              <a:rPr b="0" lang="zh-CN" sz="27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社会保障</a:t>
            </a:r>
            <a:r>
              <a:rPr b="0" lang="zh-CN" sz="2700" spc="-1" strike="noStrike">
                <a:solidFill>
                  <a:srgbClr val="660066"/>
                </a:solidFill>
                <a:latin typeface="黑体"/>
                <a:ea typeface="黑体"/>
              </a:rPr>
              <a:t> 其他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581360"/>
            <a:ext cx="7777080" cy="1584360"/>
          </a:xfrm>
          <a:prstGeom prst="rect">
            <a:avLst/>
          </a:prstGeom>
          <a:solidFill>
            <a:srgbClr val="969696">
              <a:alpha val="42000"/>
            </a:srgbClr>
          </a:solidFill>
          <a:ln w="93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我国的分配制度：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按劳分配为主体 多种分配方式并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处理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效率和公平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规范收入、缩小差别、共同富裕、防止两极分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32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三、社会保障</a:t>
            </a:r>
            <a:r>
              <a:rPr b="0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6985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微软雅黑"/>
                <a:ea typeface="微软雅黑"/>
              </a:rPr>
              <a:t>社会保障：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家和社会通过立法，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民收入进行分配和再分配，对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成员的基本生活权利给予保障的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安全制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151000" cy="24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63"/>
          <p:cNvPicPr/>
          <p:nvPr/>
        </p:nvPicPr>
        <p:blipFill>
          <a:blip r:embed="rId3"/>
          <a:stretch/>
        </p:blipFill>
        <p:spPr>
          <a:xfrm>
            <a:off x="900000" y="5013360"/>
            <a:ext cx="35290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（一）社会保障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保险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以立法手段建立基金，在纳税人丧失劳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能力和机会时，提供基本生活保障的制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养老、失业、医疗、工伤、生育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救济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对无劳动能力和生活来源者给予物质帮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的制度。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灾难、贫困、孤寡病残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福利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为全体社会成员提供的各种福利的总称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公共卫生设施、住房、物价补贴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、社会优抚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依法对特定主体的物质优待和抚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         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退伍军人、伤残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084640"/>
            <a:ext cx="7848360" cy="108108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社会保障体系作用：</a:t>
            </a: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社会稳定的 “安全网” ；经济持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幼圆"/>
                <a:ea typeface="幼圆"/>
              </a:rPr>
              <a:t>增长的“调节器”；国家长治久安的重要基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9138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黑体"/>
              </a:rPr>
              <a:t>（二）社会保障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3573360"/>
            <a:ext cx="7345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、受益基准制：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根据受益人的情况提供相应的社会保障。不出钱者也受益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---- 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侧重公平和伦理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84464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660033"/>
                </a:solidFill>
                <a:latin typeface="黑体"/>
                <a:ea typeface="黑体"/>
              </a:rPr>
              <a:t>、缴款基准制：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根据资金来源和数量，提供相应的社会保障。谁出钱谁受益，多出钱者多受益。 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---- 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微软雅黑"/>
              </a:rPr>
              <a:t>强调效率和市场的作用</a:t>
            </a:r>
            <a:r>
              <a:rPr b="0" lang="zh-CN" sz="3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5400000">
            <a:off x="552240" y="4856040"/>
            <a:ext cx="119844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761080" cy="72072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项制度有机结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兼顾公平和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560" y="1699920"/>
            <a:ext cx="712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补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社会保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要点：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国家和社会通过立法，对国民收入进行分配和再分配，对社会成员的基本生活权利给予保障的社会安全制度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a50021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a50021"/>
                </a:solidFill>
                <a:latin typeface="微软雅黑"/>
                <a:ea typeface="微软雅黑"/>
              </a:rPr>
              <a:t>我国的社会保障体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要点：</a:t>
            </a:r>
            <a:r>
              <a:rPr b="0" lang="zh-CN" sz="24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社会保险、社会救济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 </a:t>
            </a:r>
            <a:r>
              <a:rPr b="0" lang="zh-CN" sz="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社会福利、社会优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403280" y="692280"/>
            <a:ext cx="4896000" cy="85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思 考 题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P191</a:t>
            </a:r>
            <a:r>
              <a:rPr b="1" lang="zh-CN" sz="1000" spc="-1" strike="noStrike">
                <a:solidFill>
                  <a:srgbClr val="99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案例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59894890455666f0450a0" descr=""/>
          <p:cNvPicPr/>
          <p:nvPr/>
        </p:nvPicPr>
        <p:blipFill>
          <a:blip r:embed="rId2"/>
          <a:stretch/>
        </p:blipFill>
        <p:spPr>
          <a:xfrm>
            <a:off x="2987640" y="5661000"/>
            <a:ext cx="563868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732720" y="549360"/>
            <a:ext cx="1441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4T14:56:45Z</dcterms:created>
  <dc:creator>Southeast Univercity</dc:creator>
  <dc:description/>
  <dc:language>en-US</dc:language>
  <cp:lastModifiedBy>User</cp:lastModifiedBy>
  <dcterms:modified xsi:type="dcterms:W3CDTF">2013-06-05T14:06:07Z</dcterms:modified>
  <cp:revision>158</cp:revision>
  <dc:subject/>
  <dc:title>第三章  社会主义初级阶段的 基本路线和基本纲领</dc:title>
</cp:coreProperties>
</file>