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46D-5CD7-46F7-975E-F7410E14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BF6-4894-45CE-91F0-CAC007E9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025-EAE3-4CEF-BD90-93CF4FEC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C7BB-5264-4AB7-BB88-FF1451A2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BEE-5CC6-47C5-B140-170EA650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3C4-77F6-4EA7-8D67-8E53EDB0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DEFF-AC26-4348-90B1-33F5E60D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2AE-0502-4A61-8A95-084EF966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1B7C-A4FD-4D8A-92DC-1E53EB8D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3BE2-14FE-4A25-93A2-2E0967BF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161-BF69-4F32-9595-E5DE62AC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3400-16CB-4285-B9FB-97AFE05F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DAB2-75F0-486C-AADC-8599E7A7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773C-6966-4589-A3DD-8FF11CC4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451B-319E-4598-A40A-12A1166E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7C5E-E438-43CE-8BA5-73B430B7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7E9C-23D5-485C-9FE1-8B8889A5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DAEA-3E86-47C2-B568-9524E73F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F406-93B9-4B05-936D-8FCF40B7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2A71-FE55-44FC-86C3-110F2163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FCFF-66D4-4233-80AB-E46D11D2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15DC-98BB-4B22-87ED-5ADD3C63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0E10-9454-42DB-82FB-92B70160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0398-4F8F-4A2F-B5BF-C8F5FB13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d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904080" y="1159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构建社会主义和谐社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20042291743154609" descr=""/>
          <p:cNvPicPr/>
          <p:nvPr/>
        </p:nvPicPr>
        <p:blipFill>
          <a:blip r:embed="rId2"/>
          <a:stretch/>
        </p:blipFill>
        <p:spPr>
          <a:xfrm rot="10800000">
            <a:off x="-360" y="4652640"/>
            <a:ext cx="2071800" cy="22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d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904080" y="1159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构建社会主义和谐社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20042291743154609" descr=""/>
          <p:cNvPicPr/>
          <p:nvPr/>
        </p:nvPicPr>
        <p:blipFill>
          <a:blip r:embed="rId2"/>
          <a:stretch/>
        </p:blipFill>
        <p:spPr>
          <a:xfrm rot="10800000">
            <a:off x="-360" y="4652640"/>
            <a:ext cx="2071800" cy="22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A046-2AC7-48A8-8B93-E33768090477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04080" y="1159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构建社会主义和谐社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20042291743154609" descr=""/>
          <p:cNvPicPr/>
          <p:nvPr/>
        </p:nvPicPr>
        <p:blipFill>
          <a:blip r:embed="rId3"/>
          <a:stretch/>
        </p:blipFill>
        <p:spPr>
          <a:xfrm rot="10800000">
            <a:off x="-360" y="4652640"/>
            <a:ext cx="2071800" cy="22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4942-D571-49A7-869C-2E30A9D3727C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04080" y="1159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构建社会主义和谐社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20042291743154609" descr=""/>
          <p:cNvPicPr/>
          <p:nvPr/>
        </p:nvPicPr>
        <p:blipFill>
          <a:blip r:embed="rId3"/>
          <a:stretch/>
        </p:blipFill>
        <p:spPr>
          <a:xfrm rot="10800000">
            <a:off x="-360" y="4652640"/>
            <a:ext cx="2071800" cy="22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8.xml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3880" y="1676520"/>
            <a:ext cx="2971800" cy="2590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197000"/>
            <a:ext cx="4392720" cy="4248000"/>
          </a:xfrm>
          <a:prstGeom prst="ellipse">
            <a:avLst/>
          </a:prstGeom>
          <a:solidFill>
            <a:srgbClr val="ebf7ff">
              <a:alpha val="50000"/>
            </a:srgbClr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7640" y="2421000"/>
            <a:ext cx="204624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3809880"/>
            <a:ext cx="2895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56360" y="3500280"/>
            <a:ext cx="235116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人——社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4941720"/>
            <a:ext cx="351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56360" y="4581360"/>
            <a:ext cx="236232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人——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2057400"/>
            <a:ext cx="1066680" cy="990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2708280"/>
            <a:ext cx="244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3505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社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3640" y="2276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黑体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92360" y="4581360"/>
            <a:ext cx="1008000" cy="581400"/>
          </a:xfrm>
          <a:prstGeom prst="rect">
            <a:avLst/>
          </a:prstGeom>
          <a:solidFill>
            <a:srgbClr val="cccc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黑体"/>
              </a:rPr>
              <a:t>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19280" y="3860640"/>
            <a:ext cx="59040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第一节  人品道德修养的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第二节  人品道德修养的基本规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第三节  人品道德修养的建设和培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76360" y="90792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第八章  机关事业单位工勤人员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人品道德修养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349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800000"/>
                </a:solidFill>
                <a:latin typeface="微软雅黑"/>
                <a:ea typeface="微软雅黑"/>
              </a:rPr>
              <a:t>提示：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机关事业单位工作人员的人品修养应具有一定的超前性和示范性。其职业道德将产生重大的社会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8920" y="119700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第一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节  人品道德修养的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2000" y="2133720"/>
            <a:ext cx="6480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一、人品道德修养需要自律</a:t>
            </a:r>
            <a:r>
              <a:rPr b="0" lang="zh-CN" sz="2800" spc="-1" strike="noStrike">
                <a:solidFill>
                  <a:srgbClr val="007a77"/>
                </a:solidFill>
                <a:latin typeface="微软雅黑"/>
                <a:ea typeface="微软雅黑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讲“良心”</a:t>
            </a:r>
            <a:r>
              <a:rPr b="0" lang="zh-CN" sz="2400" spc="-1" strike="noStrike">
                <a:solidFill>
                  <a:srgbClr val="007a77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微软雅黑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良心在道德修养中的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            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鼓励或阻止、监督、审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二、个人道德修养的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微软雅黑"/>
                <a:ea typeface="微软雅黑"/>
              </a:rPr>
              <a:t>            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勤劳  诚信  廉洁  忠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三、个人的人品修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微软雅黑"/>
                <a:ea typeface="微软雅黑"/>
              </a:rPr>
              <a:t>            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敬畏感  羞耻感  感恩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132000" y="2060640"/>
            <a:ext cx="36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一、爱岗敬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二、诚实守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三、公平公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四、遵纪守法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32000" y="112536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第二节  人品道德修养的基本规范</a:t>
            </a:r>
            <a:r>
              <a:rPr b="0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F:\好資料\隔間（太陽與陸地）.gif"/>
          <p:cNvPicPr/>
          <p:nvPr/>
        </p:nvPicPr>
        <p:blipFill>
          <a:blip r:embed="rId2"/>
          <a:stretch/>
        </p:blipFill>
        <p:spPr>
          <a:xfrm>
            <a:off x="2484360" y="5734080"/>
            <a:ext cx="4359240" cy="428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7308720" y="4941720"/>
            <a:ext cx="77148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rId4" action="ppaction://hlinksldjump"/>
          </p:cNvPr>
          <p:cNvSpPr/>
          <p:nvPr/>
        </p:nvSpPr>
        <p:spPr>
          <a:xfrm>
            <a:off x="7020000" y="5877000"/>
            <a:ext cx="1008000" cy="288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33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47640" y="155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用正确的“三观”引导人品修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90792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第三节  人品道德修养的建设和培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2133720"/>
            <a:ext cx="547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科学的世界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、坚持实践第一的观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、坚持实事求是的思想路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、坚持辩证唯物主义的</a:t>
            </a:r>
            <a:r>
              <a:rPr b="0" lang="zh-CN" sz="2800" spc="-1" strike="noStrike">
                <a:solidFill>
                  <a:srgbClr val="990000"/>
                </a:solidFill>
                <a:latin typeface="微软雅黑"/>
                <a:ea typeface="微软雅黑"/>
              </a:rPr>
              <a:t>思维方法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4005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正确的人生观：积极地对待人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63640" y="4653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正确地实现人生的价值（价值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5373720"/>
            <a:ext cx="4464000" cy="520560"/>
          </a:xfrm>
          <a:prstGeom prst="rect">
            <a:avLst/>
          </a:prstGeom>
          <a:solidFill>
            <a:srgbClr val="ffff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黑体"/>
              </a:rPr>
              <a:t>人生的意义在于贡献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39640" y="1916280"/>
            <a:ext cx="813600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一是马克思主义的指导思想，它是社会主义意识形态的灵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二是中国特色社会主义的共同理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三是以爱国主义为核心的民族精神和以改革创新为核心的时代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四是以“八荣八耻”为主要内容的社会主义荣辱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1052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社会主义核心价值体系</a:t>
            </a:r>
            <a:r>
              <a:rPr b="0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804000" y="5589720"/>
            <a:ext cx="792360" cy="288720"/>
          </a:xfrm>
          <a:custGeom>
            <a:avLst/>
            <a:gdLst>
              <a:gd name="textAreaLeft" fmla="*/ 0 w 792360"/>
              <a:gd name="textAreaRight" fmla="*/ 792720 w 79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33"/>
                </a:solidFill>
                <a:latin typeface="Times New Roman"/>
              </a:rPr>
              <a:t>接思考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921360" y="476280"/>
            <a:ext cx="1890720" cy="2160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116000" y="1628640"/>
            <a:ext cx="59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以热爱祖国为荣    以危害祖国为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以服务人民为荣    以背离人民为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以崇尚科学为荣    以愚昧无知为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以辛勤劳动为荣    以好逸恶劳为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以团结互助为荣    以损人利己为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以诚实守信为荣    以见利忘义为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以遵纪守法为荣    以违法乱纪为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以艰苦奋斗为荣    以骄奢淫逸为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92360" y="83664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八荣八耻</a:t>
            </a:r>
            <a:r>
              <a:rPr b="0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42920" y="5300640"/>
            <a:ext cx="67690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0033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、人品道德修养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学习    自律    积善    慎独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8920" y="242100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4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、机关事业单位工勤人员人品修养的基本规范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6</a:t>
            </a:r>
            <a:r>
              <a:rPr b="0" lang="zh-CN" sz="2800" spc="-1" strike="noStrike">
                <a:solidFill>
                  <a:srgbClr val="006600"/>
                </a:solidFill>
                <a:latin typeface="微软雅黑"/>
                <a:ea typeface="微软雅黑"/>
              </a:rPr>
              <a:t>、社会主义核心价值体系包括哪些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1197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思考题  </a:t>
            </a:r>
            <a:r>
              <a:rPr b="0" lang="zh-CN" sz="2800" spc="-1" strike="noStrike">
                <a:solidFill>
                  <a:srgbClr val="660033"/>
                </a:solidFill>
                <a:latin typeface="微软雅黑"/>
                <a:ea typeface="微软雅黑"/>
              </a:rPr>
              <a:t>（部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5940360" y="3068640"/>
            <a:ext cx="1008000" cy="2890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33"/>
                </a:solidFill>
                <a:latin typeface="Times New Roman"/>
              </a:rPr>
              <a:t>链要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6659640" y="4292640"/>
            <a:ext cx="1008000" cy="288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cc"/>
          </a:solidFill>
          <a:ln cap="sq"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0" lang="zh-CN" sz="1200" spc="-1" strike="noStrike">
                <a:solidFill>
                  <a:srgbClr val="660033"/>
                </a:solidFill>
                <a:latin typeface="Times New Roman"/>
              </a:rPr>
              <a:t>链要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20048282071541117" descr=""/>
          <p:cNvPicPr/>
          <p:nvPr/>
        </p:nvPicPr>
        <p:blipFill>
          <a:blip r:embed="rId4"/>
          <a:stretch/>
        </p:blipFill>
        <p:spPr>
          <a:xfrm>
            <a:off x="2819520" y="5867280"/>
            <a:ext cx="502920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0:25:34Z</dcterms:created>
  <dc:creator>cucumber</dc:creator>
  <dc:description/>
  <dc:language>en-US</dc:language>
  <cp:lastModifiedBy>User</cp:lastModifiedBy>
  <dcterms:modified xsi:type="dcterms:W3CDTF">2013-06-04T14:02:31Z</dcterms:modified>
  <cp:revision>61</cp:revision>
  <dc:subject/>
  <dc:title>幻灯片 1</dc:title>
</cp:coreProperties>
</file>