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17E-718E-4589-9BA4-CD551E9C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B1D-53B9-408A-83BF-85628DF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D6E-8E78-4881-BAF7-9A2003CE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26E-1BD5-4B1A-8DC7-4CE4CF5F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2036-6310-4C3D-951E-D1F017EF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EA25-B2BD-48A8-8761-68B239A5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5A27-0212-4AA1-917F-74F2D1B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F0FC-0ADB-414D-862F-221CCD25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D70C-1AE6-4FE2-A6D4-08CD4F9F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7C4B-9F98-4BFB-BDE8-44B22B2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349-6F82-459A-8977-85765F23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112-D3BC-4E72-BDE0-625B250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0D63-62FF-423B-B255-826ADFE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08AC-3129-4B73-A38C-53A2337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223-21D0-4CC4-9113-F35BC145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636C-0B2A-49E3-B7C5-ACE48B37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078A-3739-444A-B1FC-EF79A94B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AB5-BCC4-4E8C-99C3-B412C46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385-DC8D-4CCB-814B-E7913EE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FD2-47F2-444A-A8B9-B80C9425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A41-7A99-45C7-B3AF-0BB13ADD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B3F-F949-4C30-B7EB-3892473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4AA-CD83-4975-AB4C-69059F3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3A8-64BD-4C3A-B163-E9CB2DA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EB3E-3058-45A7-A4B9-FD0E488E29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5DDE-0EA6-47F4-A164-6A531F86DD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3500280"/>
            <a:ext cx="53276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一节  写作基础知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二节  公文特点、作用与格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三节  常用公文的写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98100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十二章  机关事业单位工勤人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公文写作基础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图片5" descr=""/>
          <p:cNvPicPr/>
          <p:nvPr/>
        </p:nvPicPr>
        <p:blipFill>
          <a:blip r:embed="rId1"/>
          <a:stretch/>
        </p:blipFill>
        <p:spPr>
          <a:xfrm rot="20766000">
            <a:off x="6156000" y="4292640"/>
            <a:ext cx="1981080" cy="18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2708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掌握公文写作的基本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47640" y="1700280"/>
            <a:ext cx="590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一、文章的主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的含义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的要求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主题与标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981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一节  写作基础知识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2997360"/>
            <a:ext cx="6912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二、文章的材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材料的概念和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种类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直—间接；历史—现实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正—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反面；典型—一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采集：广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.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多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观察体验、调查研究、阅读摘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选取：精选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真实性  准确性  典型性  新颖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加工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去粗取精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去伪存真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由此及彼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由表及里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使用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顺序得当、详略适宜、叙述生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98328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三、文章的结构 </a:t>
            </a:r>
            <a:br>
              <a:rPr sz="3200"/>
            </a:br>
            <a:br>
              <a:rPr sz="800"/>
            </a:b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文章写作的关键—谋篇布局</a:t>
            </a: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元朝乔梦符“六字诀”：  </a:t>
            </a:r>
            <a:r>
              <a:rPr b="0" lang="zh-CN" sz="2600" spc="-1" strike="noStrike">
                <a:solidFill>
                  <a:srgbClr val="333300"/>
                </a:solidFill>
                <a:latin typeface="微软雅黑"/>
                <a:ea typeface="微软雅黑"/>
              </a:rPr>
              <a:t>凤头猪肚豹尾</a:t>
            </a:r>
            <a:r>
              <a:rPr b="0" lang="zh-CN" sz="2600" spc="-1" strike="noStrike">
                <a:solidFill>
                  <a:srgbClr val="221304"/>
                </a:solidFill>
                <a:latin typeface="微软雅黑"/>
                <a:ea typeface="微软雅黑"/>
              </a:rPr>
              <a:t> </a:t>
            </a:r>
            <a:br>
              <a:rPr sz="2600"/>
            </a:b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明代谢榛“炮竹撞钟”说：</a:t>
            </a:r>
            <a:r>
              <a:rPr b="0" lang="zh-CN" sz="2600" spc="-1" strike="noStrike">
                <a:solidFill>
                  <a:srgbClr val="333300"/>
                </a:solidFill>
                <a:latin typeface="微软雅黑"/>
                <a:ea typeface="微软雅黑"/>
              </a:rPr>
              <a:t>开头炮竹，尾撞钟</a:t>
            </a:r>
            <a:br>
              <a:rPr sz="2600"/>
            </a:b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“见山  截马”说：</a:t>
            </a:r>
            <a:r>
              <a:rPr b="0" lang="zh-CN" sz="2600" spc="-1" strike="noStrike">
                <a:solidFill>
                  <a:srgbClr val="333300"/>
                </a:solidFill>
                <a:latin typeface="微软雅黑"/>
                <a:ea typeface="微软雅黑"/>
              </a:rPr>
              <a:t>开门见山   结尾如截奔马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 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文章结构的原则：服从主题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符合规律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  <a:ea typeface="微软雅黑"/>
              </a:rPr>
              <a:t>适用文体</a:t>
            </a:r>
            <a:r>
              <a:rPr b="0" lang="zh-CN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6000" y="3933720"/>
            <a:ext cx="7116840" cy="25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四、文章的语言                 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语言是思维的外壳，文章是语言的艺术</a:t>
            </a:r>
            <a:r>
              <a:rPr b="0" lang="zh-CN" sz="2400" spc="-1" strike="noStrike">
                <a:solidFill>
                  <a:srgbClr val="333300"/>
                </a:solidFill>
                <a:latin typeface="微软雅黑"/>
                <a:ea typeface="微软雅黑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</a:t>
            </a:r>
            <a:r>
              <a:rPr b="0" lang="zh-CN" sz="2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在文章中，主题是灵魂；材料是血肉；结构是骨骼；语言是细胞（文章中最小的单位）；文字则是语言的符号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676908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（一）文章语言的基本要求</a:t>
            </a:r>
            <a:br>
              <a:rPr sz="3200"/>
            </a:br>
            <a:br>
              <a:rPr sz="2000"/>
            </a:b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6666"/>
                </a:solidFill>
                <a:latin typeface="微软雅黑"/>
                <a:ea typeface="微软雅黑"/>
              </a:rPr>
              <a:t>准确规范、简明精练、鲜明生动</a:t>
            </a:r>
            <a:r>
              <a:rPr b="0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2852280"/>
            <a:ext cx="690120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）公文语言的基本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幼圆"/>
                <a:ea typeface="幼圆"/>
              </a:rPr>
              <a:t>  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庄重严谨：准确、规范、严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朴实精练：通俗易懂，简明扼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19280" y="1628640"/>
            <a:ext cx="626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一、公的文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鲜明的政治性      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格式的规范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作者和读者的特定性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法定的约束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1052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二节  公文的特点、作用与格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3068640"/>
            <a:ext cx="64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二、公文的作用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约束、指导、知照联系（让有关单位和部门知晓、相互联系和衔接）、 宣传教育、凭证依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50864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、公文的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行政类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0    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事务类：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1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四、公文的格式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380360" y="436572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71640" y="177336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一、请示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二、报告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、意见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四、通知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五、计划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六、总结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七、发言稿的写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9079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三节  常用公文的写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5" descr=""/>
          <p:cNvPicPr/>
          <p:nvPr/>
        </p:nvPicPr>
        <p:blipFill>
          <a:blip r:embed="rId1"/>
          <a:stretch/>
        </p:blipFill>
        <p:spPr>
          <a:xfrm rot="20766000">
            <a:off x="6084360" y="4076640"/>
            <a:ext cx="1981440" cy="18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981000"/>
            <a:ext cx="726624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3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思考题   </a:t>
            </a:r>
            <a:r>
              <a:rPr b="0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( </a:t>
            </a:r>
            <a:r>
              <a:rPr b="0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部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公文的特点是什么？公文在国家管理活动中的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以某局办公室秘书身份，写一份组织职工外出参加全市春季植树的通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以庆祝五一国际劳动节为背景，写一篇演讲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5229360"/>
            <a:ext cx="1152720" cy="10062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3492360" y="2421000"/>
            <a:ext cx="1008360" cy="28872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4581360"/>
            <a:ext cx="162108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3:46:24Z</dcterms:created>
  <dc:creator>llm</dc:creator>
  <dc:description/>
  <dc:language>en-US</dc:language>
  <cp:lastModifiedBy>User</cp:lastModifiedBy>
  <dcterms:modified xsi:type="dcterms:W3CDTF">2013-06-05T12:15:30Z</dcterms:modified>
  <cp:revision>57</cp:revision>
  <dc:subject/>
  <dc:title>PowerPoint 演示文稿</dc:title>
</cp:coreProperties>
</file>