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2C4C-8306-4315-BA2B-F74569E78D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893-0E94-42B8-921D-A1DE0C98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E38-BF5D-4FC4-8011-BB50379E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A03-1674-412D-9D68-E7A7F9D8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E70-5125-4D2E-B556-CE6607AA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426-0F7C-4D46-A814-FAFACF13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0182-5097-4819-B9AC-9C836E1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64B-ABF6-41F3-973F-E535CD7F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582E-4806-44DE-B35B-6B45D0EA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E86E-6224-43D0-AFFA-097D3FF5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E50C-2931-4AD4-87C2-87FF33AF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9DA2-C980-4A10-9091-2E9D4DE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5C4-47DD-46AD-809A-13076EE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52DD-6D2B-4BFF-89B7-B849F3C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52B5-C231-4240-B5EE-533B5594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1B15-0712-4962-AEB0-E2C34BF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C598-59B7-4C6B-9829-0EF51C5F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7D8A-5B92-438D-A791-0150E729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59A-0398-41CE-8ADE-DC8CED1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959-6316-4B5C-832E-A22641B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496-ABCB-4C97-855A-AE0F34D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396-B0C4-4375-98C6-031CD530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3B2-9E9E-4287-AB23-76890815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A3E-EE61-4B5F-BA10-F91F969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8C1-27AE-456E-BD97-71F66BF9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9A06-C1AB-4121-BBF0-56CC491861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986-CA6F-4439-B456-2D97754B2E2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81378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ff"/>
                </a:solidFill>
                <a:latin typeface="微软雅黑"/>
                <a:ea typeface="微软雅黑"/>
              </a:rPr>
              <a:t>        </a:t>
            </a:r>
            <a:r>
              <a:rPr b="1" lang="zh-CN" sz="4000" spc="-1" strike="noStrike">
                <a:solidFill>
                  <a:srgbClr val="ff99ff"/>
                </a:solidFill>
                <a:latin typeface="黑体"/>
                <a:ea typeface="黑体"/>
              </a:rPr>
              <a:t>提示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的是提高机关事业单位工勤人员的政治理论素养，坚持坚定正确的政治方向和政治立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三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马克思主义基本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毛泽东思想基本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ff9999"/>
                </a:solidFill>
                <a:latin typeface="微软雅黑"/>
                <a:ea typeface="微软雅黑"/>
              </a:rPr>
              <a:t>第三节  中国特色社会主义理论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三章  机关事业单位工勤人员的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>
                <a:solidFill>
                  <a:srgbClr val="ff99cc"/>
                </a:solidFill>
                <a:latin typeface="黑体"/>
                <a:ea typeface="黑体"/>
              </a:rPr>
              <a:t>政治理论素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C0C-3150-49BA-9DAD-55CBDA78BE3C}" type="slidenum">
              <a:t>1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4199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二、三个代表重要思想及其基本问题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4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“三个代表”重要思想的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、时代背景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横看世情：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当今国际总体形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科技信息化，经济全球化，政治格局多极化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纵看国情：</a:t>
            </a:r>
            <a:r>
              <a:rPr b="0" lang="zh-CN" sz="3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我国社会生活的深刻变化：多样化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内看党情：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党内腐败现象严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、实践基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改革开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、理论渊源：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脉相承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tu1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1871640" cy="20894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BD5-55C3-4CF5-ACAD-1D2C98E33B48}" type="slidenum">
              <a:t>10</a:t>
            </a:fld>
          </a:p>
        </p:txBody>
      </p:sp>
    </p:spTree>
  </p:cSld>
  <p:transition spd="slow"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73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（二） “三个代表”重要思想的科学内涵</a:t>
            </a:r>
            <a:r>
              <a:rPr b="0" lang="zh-CN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561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始终代表中国先进生产力的发展要求；</a:t>
            </a: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始终代表中国先进文化的前进方向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微软雅黑"/>
                <a:ea typeface="微软雅黑"/>
              </a:rPr>
              <a:t>始终代表中国最广大人民的根本利益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546360"/>
            <a:ext cx="843912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（三）“三个代表”重要思想的理论体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096~97  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四）“三个代表”重要思想的根本要求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098        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关键是与时俱进；创新是民族进步的灵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五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  <a:ea typeface="黑体"/>
              </a:rPr>
              <a:t>全面小康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“三个代表”重要思想的伟大实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六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三大历史任务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: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一个中心两个基本点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七）执政党建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211-F44F-41B6-985F-DA1A24B56A38}" type="slidenum">
              <a:t>11</a:t>
            </a:fld>
          </a:p>
        </p:txBody>
      </p:sp>
    </p:spTree>
  </p:cSld>
  <p:transition spd="slow"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lsun1217,20060423193726" descr=""/>
          <p:cNvPicPr/>
          <p:nvPr/>
        </p:nvPicPr>
        <p:blipFill>
          <a:blip r:embed="rId1"/>
          <a:srcRect l="32944" t="5102" r="4454" b="35833"/>
          <a:stretch/>
        </p:blipFill>
        <p:spPr>
          <a:xfrm>
            <a:off x="6648480" y="404640"/>
            <a:ext cx="1461960" cy="1729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5546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三、科学发展观基本问题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353440" cy="3672000"/>
          </a:xfrm>
          <a:prstGeom prst="rect">
            <a:avLst/>
          </a:prstGeom>
          <a:noFill/>
          <a:ln w="9360">
            <a:solidFill>
              <a:srgbClr val="333300"/>
            </a:solidFill>
            <a:prstDash val="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含义：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 坚持以人为本，树立全面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协调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可持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的发展观，促进经济社会和人的全面发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强调五个“统筹”：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统筹城乡发展、区域发展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经济社会发展、人与自然和谐发展、国内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展对外开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FCB-5F7E-4745-BA3E-CF9EC74A35E2}" type="slidenum">
              <a:t>12</a:t>
            </a:fld>
          </a:p>
        </p:txBody>
      </p:sp>
    </p:spTree>
  </p:cSld>
  <p:transition spd="slow">
    <p:checke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0661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一）科学发展观的重要地位和科学评价  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        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P1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424720" cy="4248000"/>
          </a:xfrm>
          <a:prstGeom prst="rect">
            <a:avLst/>
          </a:prstGeom>
          <a:noFill/>
          <a:ln w="9360">
            <a:solidFill>
              <a:srgbClr val="3333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对党的三代中央领导集体关于发展思想的继承和发展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马克思主义关于发展的世界观、方法论的集中体现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一脉相承、与时俱进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我国经济社会发展的重要指导方针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发展中国特色社会主义必须坚持和贯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的重大战略思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4C0-5F24-4370-85CA-B86F4927244A}" type="slidenum">
              <a:t>13</a:t>
            </a:fld>
          </a:p>
        </p:txBody>
      </p:sp>
    </p:spTree>
  </p:cSld>
  <p:transition spd="slow"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11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二）科学发展观的科学内涵和精神实质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991640" cy="367344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第一要义是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核心是以人为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基本要求是全面协调和可持续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、根本方法是统筹兼顾  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个方面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一对关系”、“两个大局”、        </a:t>
            </a:r>
            <a:r>
              <a:rPr b="0" lang="zh-CN" sz="1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“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三组利益”、“五个统筹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C91-6CC5-4B6C-A31D-E35BE2A6C17E}" type="slidenum">
              <a:t>14</a:t>
            </a:fld>
          </a:p>
        </p:txBody>
      </p:sp>
    </p:spTree>
  </p:cSld>
  <p:transition spd="slow">
    <p:checke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74167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用科学发展观统领经济社会发展全局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推动国民经济又好又快发展</a:t>
            </a: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3141720"/>
            <a:ext cx="828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① 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走中国特色新型工业化道路。 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② 做好“三农”工作，建设社会主义新农村。 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③ 推进自主创新，建设创新型国家。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④ 建设资源节约型、环境友好型社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5850000"/>
            <a:ext cx="92232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19640" y="5516640"/>
            <a:ext cx="987480" cy="1077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948360" y="5157720"/>
            <a:ext cx="1055880" cy="1152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76500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三）牢固树立和全面落实科学发展观</a:t>
            </a:r>
            <a:r>
              <a:rPr b="1" lang="zh-CN" sz="10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P1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                     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C219-8B1C-40BB-AB1E-AC98055B49D3}" type="slidenum">
              <a:t>15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加快社会主义和谐社会发展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P103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3573360"/>
            <a:ext cx="7632720" cy="2592360"/>
          </a:xfrm>
          <a:prstGeom prst="rect">
            <a:avLst/>
          </a:pr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构建社会主义和谐社会的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条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重要原则：</a:t>
            </a:r>
            <a:br>
              <a:rPr sz="3200"/>
            </a:b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以人为本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；</a:t>
            </a:r>
            <a:r>
              <a:rPr b="0" lang="zh-CN" sz="3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科学发展观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； </a:t>
            </a:r>
            <a:br>
              <a:rPr sz="28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改革开放；必须坚持民主法治；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正确处理改革发展稳定的关系；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必须坚持在党的领导下全社会共同建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1628640"/>
            <a:ext cx="6985080" cy="1656000"/>
          </a:xfrm>
          <a:prstGeom prst="rect">
            <a:avLst/>
          </a:pr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和谐社会的总要求：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方面</a:t>
            </a:r>
            <a:r>
              <a:rPr b="1" lang="zh-CN" sz="2400" spc="-1" strike="noStrike">
                <a:solidFill>
                  <a:srgbClr val="ffccff"/>
                </a:solidFill>
                <a:latin typeface="幼圆"/>
                <a:ea typeface="幼圆"/>
              </a:rPr>
              <a:t> </a:t>
            </a: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民主法治、公平正义、诚信友爱、充满活力、</a:t>
            </a:r>
            <a:br>
              <a:rPr sz="3200"/>
            </a:br>
            <a:r>
              <a:rPr b="0" lang="zh-CN" sz="3200" spc="-1" strike="noStrike">
                <a:solidFill>
                  <a:srgbClr val="003300"/>
                </a:solidFill>
                <a:latin typeface="微软雅黑"/>
                <a:ea typeface="微软雅黑"/>
              </a:rPr>
              <a:t>安定有序、人与自然和谐相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0ED7-8A02-4163-BA36-3BB3905BE86C}" type="slidenum">
              <a:t>16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完善全面落实科学发展观的保障机制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在更高的起点上践行、创新推动科学发展观的机制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         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三个“转变”；五项措施   </a:t>
            </a:r>
            <a:r>
              <a:rPr b="0" lang="zh-CN" sz="2800" spc="-1" strike="noStrike">
                <a:solidFill>
                  <a:srgbClr val="003300"/>
                </a:solidFill>
                <a:latin typeface="微软雅黑"/>
                <a:ea typeface="微软雅黑"/>
              </a:rPr>
              <a:t>P104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852640"/>
            <a:ext cx="7632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（四）十七大对科学发展观要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P104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始终坚持党的基本路线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积极构建社会主义和谐社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继续深化改革开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切实加强和改进党的领导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C83-5B38-40D0-BC5E-6B83C3280750}" type="slidenum">
              <a:t>17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036000" cy="64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0A5-64B8-466C-815E-13A8D976DCF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4464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行楷"/>
              </a:rPr>
              <a:t>思考题    </a:t>
            </a: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微软雅黑"/>
              </a:rPr>
              <a:t>（部分）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题要点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中国特色社会主义理论体系是立足于社会主义初级阶段的基本国情，总结我国发展实践，借鉴外国发展经验，适应新的发展要求提出来的，所以说是不断发展的开放的理论体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微软雅黑"/>
                <a:ea typeface="微软雅黑"/>
              </a:rPr>
              <a:t> ②</a:t>
            </a:r>
            <a:r>
              <a:rPr b="0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科学发展观精神实质：第一要义是发展；核心是以人为本；基本要求是全面协调和可持续发展；根本方法是统筹兼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295280" cy="1130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773360"/>
            <a:ext cx="820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800000"/>
                </a:solidFill>
                <a:latin typeface="微软雅黑"/>
                <a:ea typeface="微软雅黑"/>
              </a:rPr>
              <a:t>、如何理解中国特色社会主义理论体系是不断发展的开放的理论体系？科学发展观的精神实质是什么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453-5692-489C-B97A-3C9A95EEDE81}" type="slidenum">
              <a:t>19</a:t>
            </a:fld>
          </a:p>
        </p:txBody>
      </p:sp>
    </p:spTree>
  </p:cSld>
  <p:transition spd="slow">
    <p:checke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6108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 中国特色社会主义理论体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6769080" cy="3598920"/>
          </a:xfrm>
          <a:prstGeom prst="rect">
            <a:avLst/>
          </a:prstGeom>
          <a:solidFill>
            <a:srgbClr val="003300">
              <a:alpha val="64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理论成果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邓小平理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三个代表重要思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                       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科学发展</a:t>
            </a: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FB2-7786-43CE-829F-A1718A825F89}" type="slidenum">
              <a:t>2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6000" y="620280"/>
            <a:ext cx="62640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一、邓小平理论基本问题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421000"/>
            <a:ext cx="8786880" cy="3600360"/>
          </a:xfrm>
          <a:prstGeom prst="rect">
            <a:avLst/>
          </a:prstGeom>
          <a:solidFill>
            <a:srgbClr val="003300">
              <a:alpha val="64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（一）邓小平理论形成和发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阶段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78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一届三中全会前后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198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二大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次提出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建设有中国特色社会主义”</a:t>
            </a:r>
            <a:r>
              <a:rPr b="1" lang="zh-CN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学命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阶段 基本形成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二大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 1987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三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阶段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7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十三大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~1992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南方谈话和十四大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27280" cy="16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0BD-FB05-4BFE-B349-DE94ED2A50B2}" type="slidenum">
              <a:t>3</a:t>
            </a:fld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 rot="10800000">
            <a:off x="533520" y="-7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党的思想路线：</a:t>
            </a:r>
            <a:r>
              <a:rPr b="1" lang="zh-CN" sz="3200" spc="-1" strike="noStrike">
                <a:solidFill>
                  <a:srgbClr val="ff99ff"/>
                </a:solidFill>
                <a:latin typeface="黑体"/>
                <a:ea typeface="黑体"/>
              </a:rPr>
              <a:t>“实事求是”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源于班固汉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毛泽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《改造我们的学习》引用，并用来概括党的思想路线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365720"/>
            <a:ext cx="849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9999"/>
                </a:solidFill>
                <a:latin typeface="华文细黑"/>
                <a:ea typeface="华文细黑"/>
              </a:rPr>
              <a:t>    </a:t>
            </a:r>
            <a:r>
              <a:rPr b="1" lang="zh-CN" sz="3500" spc="-1" strike="noStrike">
                <a:solidFill>
                  <a:srgbClr val="ff9999"/>
                </a:solidFill>
                <a:latin typeface="微软雅黑"/>
                <a:ea typeface="微软雅黑"/>
              </a:rPr>
              <a:t>十一届五中重新确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500" spc="-1" strike="noStrike">
                <a:solidFill>
                  <a:srgbClr val="ff9999"/>
                </a:solidFill>
                <a:latin typeface="微软雅黑"/>
                <a:ea typeface="微软雅黑"/>
              </a:rPr>
              <a:t>：</a:t>
            </a:r>
            <a:r>
              <a:rPr b="0" lang="zh-CN" sz="3500" spc="-1" strike="noStrike">
                <a:solidFill>
                  <a:srgbClr val="ffff00"/>
                </a:solidFill>
                <a:latin typeface="微软雅黑"/>
                <a:ea typeface="微软雅黑"/>
              </a:rPr>
              <a:t>“实事求是，一切从实际出发，理论联系实际，坚持实践是检验真理的标准，这就是党的思想路线。”</a:t>
            </a:r>
            <a:r>
              <a:rPr b="1" lang="zh-CN" sz="35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二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邓小平的重要思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黑体"/>
              </a:rPr>
              <a:t>重新确立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党的思想路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出了巨大的创造性的贡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7AB-1F10-435D-804F-625442B340E8}" type="slidenum">
              <a:t>4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什么是社会主义，怎样建设社会主义</a:t>
            </a: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413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明确提出了</a:t>
            </a:r>
            <a:r>
              <a:rPr b="0" lang="zh-CN" sz="2800" spc="-1" strike="noStrike">
                <a:solidFill>
                  <a:srgbClr val="ffccff"/>
                </a:solidFill>
                <a:latin typeface="微软雅黑"/>
                <a:ea typeface="微软雅黑"/>
              </a:rPr>
              <a:t>社会主义本质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著名论断：“社会主义的本质是解放生产力，发展生产力，消灭剥削，消除两极分化，最终达到共同富裕。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213000"/>
            <a:ext cx="84960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cc66"/>
                </a:solidFill>
                <a:latin typeface="微软雅黑"/>
                <a:ea typeface="微软雅黑"/>
              </a:rPr>
              <a:t>三个方面：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生产力、生产关系、最终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解放、发展生产力纳入社会主义本质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调消灭剥削，消除两极分化是社会主义本质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终目标——共同富裕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会主义本质的著名论断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0~199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12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B0F-14AA-42F3-BBEC-46FBC1A033C6}" type="slidenum">
              <a:t>5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明确提出了社会主义初级阶段的著名论断</a:t>
            </a: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06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6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生产资料私有制的社会主义改造基本完成算起，社会主义初级阶段至少需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时间。</a:t>
            </a:r>
            <a:r>
              <a:rPr b="0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长期性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根本上说，是由中国进入社会主义的</a:t>
            </a:r>
            <a:r>
              <a:rPr b="0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历史条件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建成社会主义所需要的</a:t>
            </a:r>
            <a:r>
              <a:rPr b="0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物质基础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决定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5516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会主义初级阶段的著名论断</a:t>
            </a: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79~2007</a:t>
            </a: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28</a:t>
            </a:r>
            <a:r>
              <a:rPr b="1" lang="zh-CN" sz="2800" spc="-1" strike="noStrike">
                <a:solidFill>
                  <a:srgbClr val="ff9999"/>
                </a:solidFill>
                <a:latin typeface="微软雅黑"/>
                <a:ea typeface="微软雅黑"/>
              </a:rPr>
              <a:t>年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7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批判错误观点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背离社会主义方向；否定阶段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141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微软雅黑"/>
              </a:rPr>
              <a:t>含义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社会主义；初级阶段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84E-70A7-4D1D-95BB-1CD04ADC3E2C}" type="slidenum">
              <a:t>6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197000"/>
            <a:ext cx="8064360" cy="2785320"/>
          </a:xfrm>
          <a:prstGeom prst="rect">
            <a:avLst/>
          </a:prstGeom>
          <a:solidFill>
            <a:srgbClr val="003300">
              <a:alpha val="51000"/>
            </a:srgbClr>
          </a:solidFill>
          <a:ln w="9360">
            <a:solidFill>
              <a:srgbClr val="99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基本路线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7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十三大）：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领导和团结全 国各族人民，以经济建设为中心，坚持四项基本原则，坚持改革开放，自力更生，艰苦创业，为把我国建设成为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富强、民主、文明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的社会主义现代化国家而奋斗。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07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十七大增加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“和谐”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04640"/>
            <a:ext cx="842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初级阶段的基本路线基本纲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4797360"/>
            <a:ext cx="8569080" cy="1728720"/>
          </a:xfrm>
          <a:prstGeom prst="rect">
            <a:avLst/>
          </a:prstGeom>
          <a:solidFill>
            <a:srgbClr val="000080">
              <a:alpha val="61000"/>
            </a:srgbClr>
          </a:solidFill>
          <a:ln w="93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ccff"/>
                </a:solidFill>
                <a:latin typeface="微软雅黑"/>
                <a:ea typeface="微软雅黑"/>
              </a:rPr>
              <a:t>基本纲领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（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97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十五大）：建设中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特色社会主义的经济、政治、文化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微软雅黑"/>
                <a:ea typeface="微软雅黑"/>
              </a:rPr>
              <a:t>十七大：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构建社会主义和谐社会。</a:t>
            </a:r>
            <a:r>
              <a:rPr b="0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“四位一体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229-7F0E-455B-8A13-5667149A203E}" type="slidenum">
              <a:t>7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现代化建设的</a:t>
            </a:r>
            <a:r>
              <a:rPr b="1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经济发展战略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349360"/>
            <a:ext cx="849636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我国经济发展战略部署大体分“三步走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一步：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1~1990 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国民生产总值比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80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翻一番。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温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二步：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991~20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世纪末，国民生产总值再翻一番。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小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第三步：到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21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世纪中叶，国民生产总值再翻两番，达到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中等   发达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国家水平，基本实现现代化。然后在这个基础上</a:t>
            </a:r>
            <a:r>
              <a:rPr b="1" lang="zh-CN" sz="2400" spc="-1" strike="noStrike">
                <a:solidFill>
                  <a:srgbClr val="ff9999"/>
                </a:solidFill>
                <a:latin typeface="微软雅黑"/>
                <a:ea typeface="微软雅黑"/>
              </a:rPr>
              <a:t>继续前进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653000"/>
            <a:ext cx="8136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将雄心壮志与实事求是统一起来；把经济发展和提高人民生活水平结合起来；经济发展和社会主义本质要求统一起来，坚持经济和社会全面协调发展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557360"/>
            <a:ext cx="525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战略目标的选择和重新确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2FE-EE8C-41F3-A0DB-9AE9DD96F0FE}" type="slidenum">
              <a:t>8</a:t>
            </a:fld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市场经济与经济体制改革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面向世界的社会主义对外开放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民主与政治体制改革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社会主义精神文明与中国特色社会主义文化建设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“一国两制“与和平统一祖国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独立自主的社会主义和平外交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、现代战争与新时期军队建设</a:t>
            </a:r>
            <a:r>
              <a:rPr b="0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图片1---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584360" cy="16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0B4-9256-4196-B70A-2C46EAC964D6}" type="slidenum">
              <a:t>9</a:t>
            </a:fld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8:08:47Z</dcterms:created>
  <dc:creator>ibm</dc:creator>
  <dc:description/>
  <dc:language>en-US</dc:language>
  <cp:lastModifiedBy>User</cp:lastModifiedBy>
  <dcterms:modified xsi:type="dcterms:W3CDTF">2013-06-05T13:38:31Z</dcterms:modified>
  <cp:revision>191</cp:revision>
  <dc:subject/>
  <dc:title> 专题二     邓小平理论的精髓：  解放思想、实事求是、与时俱进 </dc:title>
</cp:coreProperties>
</file>